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D531-46F8-4793-851A-657652B02A3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78E2-F53A-4BCB-A2C4-8E8B5C5FD84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1A0E-5CB6-41A7-AA85-5531FD70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C21-B7D8-465E-979F-C2248B71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13A2-39A9-48CB-8530-AEBEBE00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CD86-7731-4A7D-8DA9-AC92059D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7CD-C015-433C-8E01-3669B3E6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AD1-E337-4F1C-A216-0563F0C9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EEFF-359E-4880-8F98-719431B4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54A-E4FD-4FB5-ABAE-E09BB322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954B-7664-463E-89E4-E63E4FE8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5C1D-BFA8-4A8D-A017-B5B1337C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C66-9D7A-4158-8A0C-1250F440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911-0D6F-4AB4-B6DA-87E69C5F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9CD4-60B1-46CE-8ECA-6020026236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0"/>
            <a:ext cx="77724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Times New Roman"/>
              </a:rPr>
              <a:t>冀教版四年级数学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684360" y="2781360"/>
            <a:ext cx="7772400" cy="114300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ff"/>
                </a:solidFill>
                <a:latin typeface="Times New Roman"/>
              </a:rPr>
              <a:t>认识更大的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4067280" y="5084640"/>
            <a:ext cx="46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十个千万就是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619280" y="2637000"/>
            <a:ext cx="460836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442280" y="508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一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5"/>
          <p:cNvGrpSpPr/>
          <p:nvPr/>
        </p:nvGrpSpPr>
        <p:grpSpPr>
          <a:xfrm>
            <a:off x="1187280" y="1052640"/>
            <a:ext cx="2828880" cy="2952720"/>
            <a:chOff x="1187280" y="1052640"/>
            <a:chExt cx="2828880" cy="2952720"/>
          </a:xfrm>
        </p:grpSpPr>
        <p:sp>
          <p:nvSpPr>
            <p:cNvPr id="170" name="Rectangle 6"/>
            <p:cNvSpPr/>
            <p:nvPr/>
          </p:nvSpPr>
          <p:spPr>
            <a:xfrm>
              <a:off x="1187280" y="1052640"/>
              <a:ext cx="73080" cy="2952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1692000" y="1052640"/>
              <a:ext cx="73080" cy="2952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2216160" y="1052640"/>
              <a:ext cx="72720" cy="2952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9"/>
            <p:cNvSpPr/>
            <p:nvPr/>
          </p:nvSpPr>
          <p:spPr>
            <a:xfrm>
              <a:off x="2771640" y="1052640"/>
              <a:ext cx="73080" cy="2952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0"/>
            <p:cNvSpPr/>
            <p:nvPr/>
          </p:nvSpPr>
          <p:spPr>
            <a:xfrm>
              <a:off x="3346200" y="1052640"/>
              <a:ext cx="73080" cy="2952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1"/>
            <p:cNvSpPr/>
            <p:nvPr/>
          </p:nvSpPr>
          <p:spPr>
            <a:xfrm>
              <a:off x="3943080" y="1052640"/>
              <a:ext cx="73080" cy="2952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tangle 12"/>
          <p:cNvSpPr/>
          <p:nvPr/>
        </p:nvSpPr>
        <p:spPr>
          <a:xfrm>
            <a:off x="826920" y="4005360"/>
            <a:ext cx="5329440" cy="792000"/>
          </a:xfrm>
          <a:prstGeom prst="rect">
            <a:avLst/>
          </a:prstGeom>
          <a:solidFill>
            <a:srgbClr val="ee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63528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3132000" y="4073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484360" y="400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1908000" y="40053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百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403280" y="400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千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900000" y="4292640"/>
            <a:ext cx="5050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9"/>
          <p:cNvGrpSpPr/>
          <p:nvPr/>
        </p:nvGrpSpPr>
        <p:grpSpPr>
          <a:xfrm>
            <a:off x="1547640" y="1989000"/>
            <a:ext cx="360360" cy="1944720"/>
            <a:chOff x="1547640" y="1989000"/>
            <a:chExt cx="360360" cy="1944720"/>
          </a:xfrm>
        </p:grpSpPr>
        <p:sp>
          <p:nvSpPr>
            <p:cNvPr id="184" name="Oval 20"/>
            <p:cNvSpPr/>
            <p:nvPr/>
          </p:nvSpPr>
          <p:spPr>
            <a:xfrm>
              <a:off x="1547640" y="2636640"/>
              <a:ext cx="360360" cy="21600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21"/>
            <p:cNvGrpSpPr/>
            <p:nvPr/>
          </p:nvGrpSpPr>
          <p:grpSpPr>
            <a:xfrm>
              <a:off x="1547640" y="1989000"/>
              <a:ext cx="360360" cy="1944720"/>
              <a:chOff x="1547640" y="1989000"/>
              <a:chExt cx="360360" cy="1944720"/>
            </a:xfrm>
          </p:grpSpPr>
          <p:sp>
            <p:nvSpPr>
              <p:cNvPr id="186" name="Oval 22"/>
              <p:cNvSpPr/>
              <p:nvPr/>
            </p:nvSpPr>
            <p:spPr>
              <a:xfrm>
                <a:off x="1547640" y="3717720"/>
                <a:ext cx="360360" cy="2160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23"/>
              <p:cNvSpPr/>
              <p:nvPr/>
            </p:nvSpPr>
            <p:spPr>
              <a:xfrm>
                <a:off x="1547640" y="3501720"/>
                <a:ext cx="360360" cy="2160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24"/>
              <p:cNvSpPr/>
              <p:nvPr/>
            </p:nvSpPr>
            <p:spPr>
              <a:xfrm>
                <a:off x="1547640" y="3286080"/>
                <a:ext cx="360360" cy="21564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25"/>
              <p:cNvSpPr/>
              <p:nvPr/>
            </p:nvSpPr>
            <p:spPr>
              <a:xfrm>
                <a:off x="1547640" y="3068640"/>
                <a:ext cx="360360" cy="21564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26"/>
              <p:cNvSpPr/>
              <p:nvPr/>
            </p:nvSpPr>
            <p:spPr>
              <a:xfrm>
                <a:off x="1547640" y="2852640"/>
                <a:ext cx="360360" cy="2160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27"/>
              <p:cNvSpPr/>
              <p:nvPr/>
            </p:nvSpPr>
            <p:spPr>
              <a:xfrm>
                <a:off x="1547640" y="2420640"/>
                <a:ext cx="360360" cy="2160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28"/>
              <p:cNvSpPr/>
              <p:nvPr/>
            </p:nvSpPr>
            <p:spPr>
              <a:xfrm>
                <a:off x="1547640" y="2205000"/>
                <a:ext cx="360360" cy="21564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29"/>
              <p:cNvSpPr/>
              <p:nvPr/>
            </p:nvSpPr>
            <p:spPr>
              <a:xfrm>
                <a:off x="1547640" y="1989000"/>
                <a:ext cx="360360" cy="2160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Oval 30"/>
          <p:cNvSpPr/>
          <p:nvPr/>
        </p:nvSpPr>
        <p:spPr>
          <a:xfrm>
            <a:off x="1042920" y="-384120"/>
            <a:ext cx="360360" cy="216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4500720" y="1052640"/>
            <a:ext cx="72720" cy="2952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5076720" y="1052640"/>
            <a:ext cx="73080" cy="2952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5651640" y="1052640"/>
            <a:ext cx="72720" cy="2952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4210200" y="407664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4948200" y="4425840"/>
            <a:ext cx="56052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4788000" y="4076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7"/>
          <p:cNvSpPr/>
          <p:nvPr/>
        </p:nvSpPr>
        <p:spPr>
          <a:xfrm>
            <a:off x="5503680" y="407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8"/>
          <p:cNvGrpSpPr/>
          <p:nvPr/>
        </p:nvGrpSpPr>
        <p:grpSpPr>
          <a:xfrm>
            <a:off x="4642920" y="836640"/>
            <a:ext cx="2376360" cy="863640"/>
            <a:chOff x="4642920" y="836640"/>
            <a:chExt cx="2376360" cy="863640"/>
          </a:xfrm>
        </p:grpSpPr>
        <p:sp>
          <p:nvSpPr>
            <p:cNvPr id="203" name="AutoShape 39"/>
            <p:cNvSpPr/>
            <p:nvPr/>
          </p:nvSpPr>
          <p:spPr>
            <a:xfrm flipH="1">
              <a:off x="4642560" y="836640"/>
              <a:ext cx="2376360" cy="863640"/>
            </a:xfrm>
            <a:prstGeom prst="cloudCallout">
              <a:avLst>
                <a:gd name="adj1" fmla="val -47865"/>
                <a:gd name="adj2" fmla="val 69666"/>
              </a:avLst>
            </a:prstGeom>
            <a:solidFill>
              <a:srgbClr val="eefb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5148000" y="907920"/>
              <a:ext cx="136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99"/>
                  </a:solidFill>
                  <a:latin typeface="华文行楷"/>
                  <a:ea typeface="华文行楷"/>
                </a:rPr>
                <a:t>恭喜你</a:t>
              </a:r>
              <a:r>
                <a:rPr b="1" lang="zh-CN" sz="2000" spc="-1" strike="noStrike">
                  <a:solidFill>
                    <a:srgbClr val="ff3399"/>
                  </a:solidFill>
                  <a:latin typeface="华文行楷"/>
                  <a:ea typeface="华文行楷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99"/>
                  </a:solidFill>
                  <a:latin typeface="华文行楷"/>
                  <a:ea typeface="华文行楷"/>
                </a:rPr>
                <a:t>答对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27792 L 0.00399 0.58867 E">
                                      <p:cBhvr>
                                        <p:cTn id="10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4208 L 0.00052 0.92948 E">
                                      <p:cBhvr>
                                        <p:cTn id="10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361800" y="3160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认识计数单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198360" y="13413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像一（个）、十、百、千、万、十万、百万、千万、亿等都是计数单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182520" y="2666880"/>
            <a:ext cx="87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同的计数单位，按照一定的顺序排列，它们所占的位置叫数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7"/>
          <p:cNvSpPr/>
          <p:nvPr/>
        </p:nvSpPr>
        <p:spPr>
          <a:xfrm>
            <a:off x="287280" y="390852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按照我国的习惯，从右起每四个数位分一级，分别是：个级、万级、亿级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64960" y="2013120"/>
            <a:ext cx="9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数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365120" y="907920"/>
          <a:ext cx="6413760" cy="3494160"/>
        </p:xfrm>
        <a:graphic>
          <a:graphicData uri="http://schemas.openxmlformats.org/drawingml/2006/table">
            <a:tbl>
              <a:tblPr/>
              <a:tblGrid>
                <a:gridCol w="218880"/>
                <a:gridCol w="1267920"/>
                <a:gridCol w="719640"/>
                <a:gridCol w="646560"/>
                <a:gridCol w="577080"/>
                <a:gridCol w="719640"/>
                <a:gridCol w="811800"/>
                <a:gridCol w="689400"/>
                <a:gridCol w="762840"/>
              </a:tblGrid>
              <a:tr h="648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33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1" name="Group 48"/>
          <p:cNvGrpSpPr/>
          <p:nvPr/>
        </p:nvGrpSpPr>
        <p:grpSpPr>
          <a:xfrm>
            <a:off x="1231920" y="1027080"/>
            <a:ext cx="6499080" cy="2188080"/>
            <a:chOff x="1231920" y="1027080"/>
            <a:chExt cx="6499080" cy="2188080"/>
          </a:xfrm>
        </p:grpSpPr>
        <p:grpSp>
          <p:nvGrpSpPr>
            <p:cNvPr id="212" name="Group 49"/>
            <p:cNvGrpSpPr/>
            <p:nvPr/>
          </p:nvGrpSpPr>
          <p:grpSpPr>
            <a:xfrm>
              <a:off x="1231920" y="1628640"/>
              <a:ext cx="6499080" cy="1586520"/>
              <a:chOff x="1231920" y="1628640"/>
              <a:chExt cx="6499080" cy="1586520"/>
            </a:xfrm>
          </p:grpSpPr>
          <p:sp>
            <p:nvSpPr>
              <p:cNvPr id="213" name="Text Box 50"/>
              <p:cNvSpPr/>
              <p:nvPr/>
            </p:nvSpPr>
            <p:spPr>
              <a:xfrm>
                <a:off x="1231920" y="2060640"/>
                <a:ext cx="90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51"/>
              <p:cNvGrpSpPr/>
              <p:nvPr/>
            </p:nvGrpSpPr>
            <p:grpSpPr>
              <a:xfrm>
                <a:off x="1989000" y="1628640"/>
                <a:ext cx="5742000" cy="1586520"/>
                <a:chOff x="1989000" y="1628640"/>
                <a:chExt cx="5742000" cy="1586520"/>
              </a:xfrm>
            </p:grpSpPr>
            <p:sp>
              <p:nvSpPr>
                <p:cNvPr id="215" name="Text Box 52"/>
                <p:cNvSpPr/>
                <p:nvPr/>
              </p:nvSpPr>
              <p:spPr>
                <a:xfrm>
                  <a:off x="7155000" y="2146320"/>
                  <a:ext cx="576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个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位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Text Box 53"/>
                <p:cNvSpPr/>
                <p:nvPr/>
              </p:nvSpPr>
              <p:spPr>
                <a:xfrm>
                  <a:off x="6434280" y="2146320"/>
                  <a:ext cx="576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十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位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Text Box 54"/>
                <p:cNvSpPr/>
                <p:nvPr/>
              </p:nvSpPr>
              <p:spPr>
                <a:xfrm>
                  <a:off x="5715000" y="2146320"/>
                  <a:ext cx="57636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百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位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Text Box 55"/>
                <p:cNvSpPr/>
                <p:nvPr/>
              </p:nvSpPr>
              <p:spPr>
                <a:xfrm>
                  <a:off x="4994280" y="2146320"/>
                  <a:ext cx="57636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千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位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Text Box 56"/>
                <p:cNvSpPr/>
                <p:nvPr/>
              </p:nvSpPr>
              <p:spPr>
                <a:xfrm>
                  <a:off x="4273560" y="2146320"/>
                  <a:ext cx="57636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位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 Box 57"/>
                <p:cNvSpPr/>
                <p:nvPr/>
              </p:nvSpPr>
              <p:spPr>
                <a:xfrm>
                  <a:off x="3646440" y="1628640"/>
                  <a:ext cx="628560" cy="155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十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位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 Box 58"/>
                <p:cNvSpPr/>
                <p:nvPr/>
              </p:nvSpPr>
              <p:spPr>
                <a:xfrm>
                  <a:off x="1989000" y="1658880"/>
                  <a:ext cx="628920" cy="155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千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位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Text Box 59"/>
                <p:cNvSpPr/>
                <p:nvPr/>
              </p:nvSpPr>
              <p:spPr>
                <a:xfrm>
                  <a:off x="2854440" y="1658880"/>
                  <a:ext cx="628560" cy="155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百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位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3" name="Text Box 60"/>
            <p:cNvSpPr/>
            <p:nvPr/>
          </p:nvSpPr>
          <p:spPr>
            <a:xfrm>
              <a:off x="2925720" y="10587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万       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61"/>
            <p:cNvSpPr/>
            <p:nvPr/>
          </p:nvSpPr>
          <p:spPr>
            <a:xfrm>
              <a:off x="5805360" y="102708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 　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62"/>
          <p:cNvSpPr/>
          <p:nvPr/>
        </p:nvSpPr>
        <p:spPr>
          <a:xfrm>
            <a:off x="4913280" y="3286080"/>
            <a:ext cx="29098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3"/>
          <p:cNvSpPr/>
          <p:nvPr/>
        </p:nvSpPr>
        <p:spPr>
          <a:xfrm>
            <a:off x="9685440" y="49579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       8   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6"/>
          <p:cNvSpPr/>
          <p:nvPr/>
        </p:nvSpPr>
        <p:spPr>
          <a:xfrm>
            <a:off x="9685440" y="690876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      0       0    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7188120" y="35146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6497640" y="35146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5707080" y="353232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5003640" y="3532320"/>
            <a:ext cx="4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4194000" y="3672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3038760" y="3514680"/>
            <a:ext cx="11552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十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4"/>
          <p:cNvSpPr/>
          <p:nvPr/>
        </p:nvSpPr>
        <p:spPr>
          <a:xfrm>
            <a:off x="2449440" y="3514680"/>
            <a:ext cx="10335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5"/>
          <p:cNvSpPr/>
          <p:nvPr/>
        </p:nvSpPr>
        <p:spPr>
          <a:xfrm>
            <a:off x="1738080" y="3429000"/>
            <a:ext cx="10335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17"/>
          <p:cNvSpPr/>
          <p:nvPr/>
        </p:nvSpPr>
        <p:spPr>
          <a:xfrm>
            <a:off x="2131920" y="1027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19"/>
          <p:cNvSpPr/>
          <p:nvPr/>
        </p:nvSpPr>
        <p:spPr>
          <a:xfrm>
            <a:off x="2131920" y="836640"/>
            <a:ext cx="0" cy="352908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21"/>
          <p:cNvSpPr/>
          <p:nvPr/>
        </p:nvSpPr>
        <p:spPr>
          <a:xfrm flipH="1">
            <a:off x="-360" y="914400"/>
            <a:ext cx="1258920" cy="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23"/>
          <p:cNvSpPr/>
          <p:nvPr/>
        </p:nvSpPr>
        <p:spPr>
          <a:xfrm flipH="1">
            <a:off x="0" y="1573200"/>
            <a:ext cx="1332000" cy="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25"/>
          <p:cNvSpPr/>
          <p:nvPr/>
        </p:nvSpPr>
        <p:spPr>
          <a:xfrm flipH="1">
            <a:off x="0" y="3357720"/>
            <a:ext cx="1332000" cy="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接连接符 8192"/>
          <p:cNvSpPr/>
          <p:nvPr/>
        </p:nvSpPr>
        <p:spPr>
          <a:xfrm flipH="1" flipV="1">
            <a:off x="0" y="4365360"/>
            <a:ext cx="1332000" cy="3492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8205"/>
          <p:cNvSpPr/>
          <p:nvPr/>
        </p:nvSpPr>
        <p:spPr>
          <a:xfrm>
            <a:off x="1332000" y="914400"/>
            <a:ext cx="0" cy="35226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8206"/>
          <p:cNvSpPr/>
          <p:nvPr/>
        </p:nvSpPr>
        <p:spPr>
          <a:xfrm>
            <a:off x="1332000" y="1058760"/>
            <a:ext cx="65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8207"/>
          <p:cNvSpPr/>
          <p:nvPr/>
        </p:nvSpPr>
        <p:spPr>
          <a:xfrm>
            <a:off x="1476360" y="3672000"/>
            <a:ext cx="67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208"/>
          <p:cNvSpPr/>
          <p:nvPr/>
        </p:nvSpPr>
        <p:spPr>
          <a:xfrm>
            <a:off x="0" y="102708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8209"/>
          <p:cNvSpPr/>
          <p:nvPr/>
        </p:nvSpPr>
        <p:spPr>
          <a:xfrm>
            <a:off x="179280" y="35323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数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210"/>
          <p:cNvSpPr/>
          <p:nvPr/>
        </p:nvSpPr>
        <p:spPr>
          <a:xfrm>
            <a:off x="349200" y="150840"/>
            <a:ext cx="86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十进制数位顺序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8211"/>
          <p:cNvSpPr/>
          <p:nvPr/>
        </p:nvSpPr>
        <p:spPr>
          <a:xfrm>
            <a:off x="398520" y="4695840"/>
            <a:ext cx="86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位顺序表是由数级、数位和计数单位三部分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212"/>
          <p:cNvSpPr/>
          <p:nvPr/>
        </p:nvSpPr>
        <p:spPr>
          <a:xfrm>
            <a:off x="349200" y="5218200"/>
            <a:ext cx="832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32523"/>
                </a:solidFill>
                <a:latin typeface="Times New Roman"/>
              </a:rPr>
              <a:t>每相邻两个计数单位之间的进率是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391"/>
          <p:cNvGrpSpPr/>
          <p:nvPr/>
        </p:nvGrpSpPr>
        <p:grpSpPr>
          <a:xfrm>
            <a:off x="-36360" y="1025640"/>
            <a:ext cx="5164920" cy="1543320"/>
            <a:chOff x="-36360" y="1025640"/>
            <a:chExt cx="5164920" cy="1543320"/>
          </a:xfrm>
        </p:grpSpPr>
        <p:grpSp>
          <p:nvGrpSpPr>
            <p:cNvPr id="251" name="Group 390"/>
            <p:cNvGrpSpPr/>
            <p:nvPr/>
          </p:nvGrpSpPr>
          <p:grpSpPr>
            <a:xfrm>
              <a:off x="-36360" y="1360080"/>
              <a:ext cx="5164920" cy="1208880"/>
              <a:chOff x="-36360" y="1360080"/>
              <a:chExt cx="5164920" cy="1208880"/>
            </a:xfrm>
          </p:grpSpPr>
          <p:sp>
            <p:nvSpPr>
              <p:cNvPr id="252" name="Text Box 317"/>
              <p:cNvSpPr/>
              <p:nvPr/>
            </p:nvSpPr>
            <p:spPr>
              <a:xfrm>
                <a:off x="-36360" y="1601640"/>
                <a:ext cx="71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3" name="Group 364"/>
              <p:cNvGrpSpPr/>
              <p:nvPr/>
            </p:nvGrpSpPr>
            <p:grpSpPr>
              <a:xfrm>
                <a:off x="565200" y="1360080"/>
                <a:ext cx="4563360" cy="1208880"/>
                <a:chOff x="565200" y="1360080"/>
                <a:chExt cx="4563360" cy="1208880"/>
              </a:xfrm>
            </p:grpSpPr>
            <p:sp>
              <p:nvSpPr>
                <p:cNvPr id="254" name="Text Box 26"/>
                <p:cNvSpPr/>
                <p:nvPr/>
              </p:nvSpPr>
              <p:spPr>
                <a:xfrm>
                  <a:off x="4671000" y="1649160"/>
                  <a:ext cx="4575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个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位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Text Box 27"/>
                <p:cNvSpPr/>
                <p:nvPr/>
              </p:nvSpPr>
              <p:spPr>
                <a:xfrm>
                  <a:off x="4100760" y="1649160"/>
                  <a:ext cx="45504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十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位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Text Box 28"/>
                <p:cNvSpPr/>
                <p:nvPr/>
              </p:nvSpPr>
              <p:spPr>
                <a:xfrm>
                  <a:off x="3528000" y="1649160"/>
                  <a:ext cx="4564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百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位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Text Box 29"/>
                <p:cNvSpPr/>
                <p:nvPr/>
              </p:nvSpPr>
              <p:spPr>
                <a:xfrm>
                  <a:off x="2952360" y="1649160"/>
                  <a:ext cx="4575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千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位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Text Box 30"/>
                <p:cNvSpPr/>
                <p:nvPr/>
              </p:nvSpPr>
              <p:spPr>
                <a:xfrm>
                  <a:off x="2380680" y="1649160"/>
                  <a:ext cx="4590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万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位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Text Box 153"/>
                <p:cNvSpPr/>
                <p:nvPr/>
              </p:nvSpPr>
              <p:spPr>
                <a:xfrm>
                  <a:off x="1883880" y="1360080"/>
                  <a:ext cx="4968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十万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位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Text Box 157"/>
                <p:cNvSpPr/>
                <p:nvPr/>
              </p:nvSpPr>
              <p:spPr>
                <a:xfrm>
                  <a:off x="565200" y="1377720"/>
                  <a:ext cx="49824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千万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位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Text Box 158"/>
                <p:cNvSpPr/>
                <p:nvPr/>
              </p:nvSpPr>
              <p:spPr>
                <a:xfrm>
                  <a:off x="1252800" y="1377720"/>
                  <a:ext cx="50184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百万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仿宋_GB2312"/>
                    </a:rPr>
                    <a:t>位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2" name="Text Box 343"/>
            <p:cNvSpPr/>
            <p:nvPr/>
          </p:nvSpPr>
          <p:spPr>
            <a:xfrm>
              <a:off x="1309680" y="1043280"/>
              <a:ext cx="137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万       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63"/>
            <p:cNvSpPr/>
            <p:nvPr/>
          </p:nvSpPr>
          <p:spPr>
            <a:xfrm>
              <a:off x="3600000" y="1025640"/>
              <a:ext cx="131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 　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4" name=""/>
          <p:cNvGraphicFramePr/>
          <p:nvPr/>
        </p:nvGraphicFramePr>
        <p:xfrm>
          <a:off x="66600" y="907920"/>
          <a:ext cx="5112000" cy="3986280"/>
        </p:xfrm>
        <a:graphic>
          <a:graphicData uri="http://schemas.openxmlformats.org/drawingml/2006/table">
            <a:tbl>
              <a:tblPr/>
              <a:tblGrid>
                <a:gridCol w="468360"/>
                <a:gridCol w="642960"/>
                <a:gridCol w="585720"/>
                <a:gridCol w="566640"/>
                <a:gridCol w="528840"/>
                <a:gridCol w="592200"/>
                <a:gridCol w="628560"/>
                <a:gridCol w="492120"/>
                <a:gridCol w="606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5" name="Group 396"/>
          <p:cNvGrpSpPr/>
          <p:nvPr/>
        </p:nvGrpSpPr>
        <p:grpSpPr>
          <a:xfrm>
            <a:off x="826920" y="2565360"/>
            <a:ext cx="4824360" cy="2225880"/>
            <a:chOff x="826920" y="2565360"/>
            <a:chExt cx="4824360" cy="2225880"/>
          </a:xfrm>
        </p:grpSpPr>
        <p:sp>
          <p:nvSpPr>
            <p:cNvPr id="266" name="Text Box 370"/>
            <p:cNvSpPr/>
            <p:nvPr/>
          </p:nvSpPr>
          <p:spPr>
            <a:xfrm>
              <a:off x="1265400" y="2565360"/>
              <a:ext cx="3947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  5  0  4  0 0  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372"/>
            <p:cNvSpPr/>
            <p:nvPr/>
          </p:nvSpPr>
          <p:spPr>
            <a:xfrm>
              <a:off x="826920" y="3098520"/>
              <a:ext cx="4326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 0  0  3  0  0 9  5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373"/>
            <p:cNvSpPr/>
            <p:nvPr/>
          </p:nvSpPr>
          <p:spPr>
            <a:xfrm>
              <a:off x="1850400" y="3722400"/>
              <a:ext cx="3800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  2  0  3 6 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397"/>
          <p:cNvSpPr/>
          <p:nvPr/>
        </p:nvSpPr>
        <p:spPr>
          <a:xfrm>
            <a:off x="304920" y="30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读出下面各数，注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读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99"/>
          <p:cNvSpPr/>
          <p:nvPr/>
        </p:nvSpPr>
        <p:spPr>
          <a:xfrm>
            <a:off x="5029200" y="2743200"/>
            <a:ext cx="3886200" cy="459720"/>
          </a:xfrm>
          <a:prstGeom prst="rect">
            <a:avLst/>
          </a:prstGeom>
          <a:solidFill>
            <a:srgbClr val="a08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读作：三百五十万四千零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01"/>
          <p:cNvSpPr/>
          <p:nvPr/>
        </p:nvSpPr>
        <p:spPr>
          <a:xfrm>
            <a:off x="5029200" y="3276720"/>
            <a:ext cx="4114800" cy="459720"/>
          </a:xfrm>
          <a:prstGeom prst="rect">
            <a:avLst/>
          </a:prstGeom>
          <a:solidFill>
            <a:srgbClr val="a08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读作：一千零三万零九十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02"/>
          <p:cNvSpPr/>
          <p:nvPr/>
        </p:nvSpPr>
        <p:spPr>
          <a:xfrm>
            <a:off x="5029200" y="3886200"/>
            <a:ext cx="3962520" cy="459720"/>
          </a:xfrm>
          <a:prstGeom prst="rect">
            <a:avLst/>
          </a:prstGeom>
          <a:solidFill>
            <a:srgbClr val="a08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读作：四十二万零三百六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1"/>
          <p:cNvSpPr/>
          <p:nvPr/>
        </p:nvSpPr>
        <p:spPr>
          <a:xfrm>
            <a:off x="1187280" y="404640"/>
            <a:ext cx="59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多位数的读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395280" y="16351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读亿级或万级要按照个级数的读法来读，再在后面加一个“亿”字或“万”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395280" y="9079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从高位读起，一级一级往下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452520" y="270828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每级末尾不管有几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都不读，其它数位上有一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连续几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都只读一个“零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684360" y="2060640"/>
            <a:ext cx="80643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69200       40080500          370600      400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80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003080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200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580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04030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684360" y="476280"/>
            <a:ext cx="3743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Times New Roman"/>
              </a:rPr>
              <a:t>先分级，再读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5"/>
          <p:cNvSpPr/>
          <p:nvPr/>
        </p:nvSpPr>
        <p:spPr>
          <a:xfrm>
            <a:off x="250920" y="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出横线上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800600" y="76212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我国民用汽车拥有量约为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一千六百零八万九千一百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辆。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私人拥有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六百二十五万七千三百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1611000" y="510552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一千六百零八万九千一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411480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5410080" y="4419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6248520" y="4419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548640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2"/>
          <p:cNvSpPr/>
          <p:nvPr/>
        </p:nvSpPr>
        <p:spPr>
          <a:xfrm>
            <a:off x="6324480" y="43434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6273720" y="51069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1079640" y="5797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六百二十五万七千三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4178160" y="57913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作：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257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6" descr="图片2"/>
          <p:cNvPicPr/>
          <p:nvPr/>
        </p:nvPicPr>
        <p:blipFill>
          <a:blip r:embed="rId1"/>
          <a:stretch/>
        </p:blipFill>
        <p:spPr>
          <a:xfrm>
            <a:off x="611280" y="733320"/>
            <a:ext cx="3735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4" descr="探测一号"/>
          <p:cNvPicPr/>
          <p:nvPr/>
        </p:nvPicPr>
        <p:blipFill>
          <a:blip r:embed="rId1"/>
          <a:stretch/>
        </p:blipFill>
        <p:spPr>
          <a:xfrm>
            <a:off x="395280" y="457200"/>
            <a:ext cx="4321080" cy="35272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5"/>
          <p:cNvSpPr/>
          <p:nvPr/>
        </p:nvSpPr>
        <p:spPr>
          <a:xfrm>
            <a:off x="4929120" y="533520"/>
            <a:ext cx="3529080" cy="1556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国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0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发射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探测一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卫星远地点为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七万四千零一十七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515880" y="4270320"/>
            <a:ext cx="3657600" cy="5814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七万四千零一十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4179960" y="42703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作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4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"/>
          <p:cNvSpPr/>
          <p:nvPr/>
        </p:nvSpPr>
        <p:spPr>
          <a:xfrm>
            <a:off x="353880" y="489276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位数的写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"/>
          <p:cNvSpPr/>
          <p:nvPr/>
        </p:nvSpPr>
        <p:spPr>
          <a:xfrm>
            <a:off x="250920" y="537372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从高位写起，一级一级往下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271440" y="5896080"/>
            <a:ext cx="80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哪一个数位上一个单位也没有就在那个数位上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占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2"/>
          <p:cNvSpPr/>
          <p:nvPr/>
        </p:nvSpPr>
        <p:spPr>
          <a:xfrm>
            <a:off x="611280" y="404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66ca7"/>
                </a:solidFill>
                <a:latin typeface="Times New Roman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4"/>
          <p:cNvSpPr/>
          <p:nvPr/>
        </p:nvSpPr>
        <p:spPr>
          <a:xfrm>
            <a:off x="250920" y="11970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0408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里面有（      ）个千万，（      ）个百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395280" y="178128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）个万，（       ）个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8"/>
          <p:cNvSpPr/>
          <p:nvPr/>
        </p:nvSpPr>
        <p:spPr>
          <a:xfrm>
            <a:off x="558720" y="2781360"/>
            <a:ext cx="84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数的一个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位千万位、万位、和千位上都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其他数位上都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这个数是（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5"/>
          <p:cNvSpPr/>
          <p:nvPr/>
        </p:nvSpPr>
        <p:spPr>
          <a:xfrm>
            <a:off x="0" y="1258920"/>
            <a:ext cx="3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6"/>
          <p:cNvSpPr/>
          <p:nvPr/>
        </p:nvSpPr>
        <p:spPr>
          <a:xfrm>
            <a:off x="30240" y="2924280"/>
            <a:ext cx="44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7"/>
          <p:cNvSpPr/>
          <p:nvPr/>
        </p:nvSpPr>
        <p:spPr>
          <a:xfrm>
            <a:off x="66600" y="4427640"/>
            <a:ext cx="6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395280" y="453564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587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（     ）位上，表示（                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54187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（     ）位上；表示（           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588960" y="5892840"/>
            <a:ext cx="8190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5"/>
          <p:cNvSpPr/>
          <p:nvPr/>
        </p:nvSpPr>
        <p:spPr>
          <a:xfrm>
            <a:off x="395280" y="5697360"/>
            <a:ext cx="81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1340078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（        ）位上，表示（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9"/>
          <p:cNvGrpSpPr/>
          <p:nvPr/>
        </p:nvGrpSpPr>
        <p:grpSpPr>
          <a:xfrm>
            <a:off x="2266920" y="460440"/>
            <a:ext cx="3484440" cy="2965320"/>
            <a:chOff x="2266920" y="460440"/>
            <a:chExt cx="3484440" cy="2965320"/>
          </a:xfrm>
        </p:grpSpPr>
        <p:sp>
          <p:nvSpPr>
            <p:cNvPr id="309" name="Text Box 5"/>
            <p:cNvSpPr/>
            <p:nvPr/>
          </p:nvSpPr>
          <p:spPr>
            <a:xfrm>
              <a:off x="2349720" y="460440"/>
              <a:ext cx="3368880" cy="5205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A</a:t>
              </a:r>
              <a:r>
                <a:rPr b="1" lang="zh-CN" sz="2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。</a:t>
              </a:r>
              <a:r>
                <a:rPr b="1" lang="en-US" sz="2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、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一个零也不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2266920" y="1222200"/>
              <a:ext cx="3368880" cy="520560"/>
            </a:xfrm>
            <a:prstGeom prst="rect">
              <a:avLst/>
            </a:prstGeom>
            <a:solidFill>
              <a:srgbClr val="937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B</a:t>
              </a:r>
              <a:r>
                <a:rPr b="1" lang="en-US" sz="2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、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只读一个零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7"/>
            <p:cNvSpPr/>
            <p:nvPr/>
          </p:nvSpPr>
          <p:spPr>
            <a:xfrm>
              <a:off x="2349720" y="1990800"/>
              <a:ext cx="3368880" cy="520560"/>
            </a:xfrm>
            <a:prstGeom prst="rect">
              <a:avLst/>
            </a:prstGeom>
            <a:solidFill>
              <a:srgbClr val="866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C</a:t>
              </a:r>
              <a:r>
                <a:rPr b="1" lang="en-US" sz="2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、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读两个零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2382480" y="2905200"/>
              <a:ext cx="3368880" cy="52056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D</a:t>
              </a:r>
              <a:r>
                <a:rPr b="1" lang="en-US" sz="2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、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读三个零</a:t>
              </a:r>
              <a:r>
                <a:rPr b="1" lang="zh-CN" sz="2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 Box 10"/>
          <p:cNvSpPr/>
          <p:nvPr/>
        </p:nvSpPr>
        <p:spPr>
          <a:xfrm>
            <a:off x="468360" y="765000"/>
            <a:ext cx="359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611280" y="3716280"/>
            <a:ext cx="80755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1003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8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030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)          (    )            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       (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2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8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4003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)          (    )             (    )            (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WordArt 14"/>
          <p:cNvSpPr txBox="1"/>
          <p:nvPr/>
        </p:nvSpPr>
        <p:spPr>
          <a:xfrm rot="819600">
            <a:off x="468360" y="259920"/>
            <a:ext cx="17272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0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选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1187280" y="4365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2895480" y="4365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4870440" y="4365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6680160" y="4349880"/>
            <a:ext cx="4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1187280" y="55022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0"/>
          <p:cNvSpPr/>
          <p:nvPr/>
        </p:nvSpPr>
        <p:spPr>
          <a:xfrm>
            <a:off x="2824200" y="550224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4840200" y="549576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732720" y="55022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在具体的情境中经历认、读、写亿以内数的过程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认识万位、十万位、百万位、千万位，理解各个数位上的数字所表示的意义，能读、写亿以内的数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让同学们感受大数在日常生活中的作用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WordArt 2"/>
          <p:cNvSpPr txBox="1"/>
          <p:nvPr/>
        </p:nvSpPr>
        <p:spPr>
          <a:xfrm>
            <a:off x="685800" y="0"/>
            <a:ext cx="3581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连连看！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152280" y="1905120"/>
            <a:ext cx="8763120" cy="36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黑体"/>
                <a:ea typeface="黑体"/>
              </a:rPr>
              <a:t>三千万零五百     </a:t>
            </a:r>
            <a:r>
              <a:rPr b="1" lang="zh-CN" sz="6000" spc="-1" strike="noStrike">
                <a:solidFill>
                  <a:srgbClr val="c0504d"/>
                </a:solidFill>
                <a:latin typeface="黑体"/>
                <a:ea typeface="黑体"/>
              </a:rPr>
              <a:t>305000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黑体"/>
                <a:ea typeface="黑体"/>
              </a:rPr>
              <a:t>三千零五十万     </a:t>
            </a:r>
            <a:r>
              <a:rPr b="1" lang="zh-CN" sz="6000" spc="-1" strike="noStrike">
                <a:solidFill>
                  <a:srgbClr val="c0504d"/>
                </a:solidFill>
                <a:latin typeface="黑体"/>
                <a:ea typeface="黑体"/>
              </a:rPr>
              <a:t>300500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黑体"/>
                <a:ea typeface="黑体"/>
              </a:rPr>
              <a:t>三千零五万       </a:t>
            </a:r>
            <a:r>
              <a:rPr b="1" lang="zh-CN" sz="6000" spc="-1" strike="noStrike">
                <a:solidFill>
                  <a:srgbClr val="c0504d"/>
                </a:solidFill>
                <a:latin typeface="黑体"/>
                <a:ea typeface="黑体"/>
              </a:rPr>
              <a:t>30000500</a:t>
            </a:r>
            <a:r>
              <a:rPr b="1" lang="zh-CN" sz="4800" spc="-1" strike="noStrike">
                <a:solidFill>
                  <a:srgbClr val="c0504d"/>
                </a:solidFill>
                <a:latin typeface="黑体"/>
                <a:ea typeface="黑体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4"/>
          <p:cNvSpPr/>
          <p:nvPr/>
        </p:nvSpPr>
        <p:spPr>
          <a:xfrm>
            <a:off x="3809880" y="2590920"/>
            <a:ext cx="1981440" cy="2438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"/>
          <p:cNvSpPr/>
          <p:nvPr/>
        </p:nvSpPr>
        <p:spPr>
          <a:xfrm flipV="1">
            <a:off x="4038480" y="2666520"/>
            <a:ext cx="1371600" cy="129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6"/>
          <p:cNvSpPr/>
          <p:nvPr/>
        </p:nvSpPr>
        <p:spPr>
          <a:xfrm flipV="1">
            <a:off x="3429000" y="4114800"/>
            <a:ext cx="19810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457200" y="457200"/>
            <a:ext cx="7086600" cy="6426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八个数字按要求组成不同的数，并写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914400" y="2617920"/>
            <a:ext cx="6019920" cy="520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一个零也不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14400" y="3367080"/>
            <a:ext cx="6019920" cy="5205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只读一个零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990720" y="4191120"/>
            <a:ext cx="6019560" cy="520560"/>
          </a:xfrm>
          <a:prstGeom prst="rect">
            <a:avLst/>
          </a:prstGeom>
          <a:solidFill>
            <a:srgbClr val="0d0d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读两个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914400" y="5105520"/>
            <a:ext cx="6019920" cy="5205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读三个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3"/>
          <p:cNvSpPr txBox="1"/>
          <p:nvPr/>
        </p:nvSpPr>
        <p:spPr>
          <a:xfrm>
            <a:off x="539640" y="260280"/>
            <a:ext cx="4496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我们的学校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14520" y="1700280"/>
            <a:ext cx="82785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504d"/>
                </a:solidFill>
                <a:latin typeface="Times New Roman"/>
              </a:rPr>
              <a:t>学校占地面积大约</a:t>
            </a:r>
            <a:r>
              <a:rPr b="1" lang="en-US" sz="6000" spc="-1" strike="noStrike">
                <a:solidFill>
                  <a:srgbClr val="c0504d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0000</a:t>
            </a:r>
            <a:r>
              <a:rPr b="1" lang="zh-CN" sz="6000" spc="-1" strike="noStrike">
                <a:solidFill>
                  <a:srgbClr val="c0504d"/>
                </a:solidFill>
                <a:latin typeface="Times New Roman"/>
              </a:rPr>
              <a:t>平方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504d"/>
                </a:solidFill>
                <a:latin typeface="Times New Roman"/>
              </a:rPr>
              <a:t>现有学生人数</a:t>
            </a:r>
            <a:r>
              <a:rPr b="1" lang="en-US" sz="6000" spc="-1" strike="noStrike">
                <a:solidFill>
                  <a:srgbClr val="c0504d"/>
                </a:solidFill>
                <a:latin typeface="Times New Roman"/>
              </a:rPr>
              <a:t>: 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024</a:t>
            </a:r>
            <a:r>
              <a:rPr b="1" lang="zh-CN" sz="6000" spc="-1" strike="noStrike">
                <a:solidFill>
                  <a:srgbClr val="c0504d"/>
                </a:solidFill>
                <a:latin typeface="Times New Roman"/>
              </a:rPr>
              <a:t>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南极长城"/>
          <p:cNvPicPr/>
          <p:nvPr/>
        </p:nvPicPr>
        <p:blipFill>
          <a:blip r:embed="rId1"/>
          <a:stretch/>
        </p:blipFill>
        <p:spPr>
          <a:xfrm>
            <a:off x="0" y="115920"/>
            <a:ext cx="4211640" cy="3024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44360" y="3357720"/>
            <a:ext cx="38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南极长城站到北京的距离大约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50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神舟"/>
          <p:cNvPicPr/>
          <p:nvPr/>
        </p:nvPicPr>
        <p:blipFill>
          <a:blip r:embed="rId2"/>
          <a:stretch/>
        </p:blipFill>
        <p:spPr>
          <a:xfrm>
            <a:off x="4211640" y="115920"/>
            <a:ext cx="4932360" cy="3024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4140360" y="3357720"/>
            <a:ext cx="500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号载人飞船每小时飞行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15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，每天飞行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7567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"/>
          <p:cNvSpPr/>
          <p:nvPr/>
        </p:nvSpPr>
        <p:spPr>
          <a:xfrm>
            <a:off x="2050920" y="3933720"/>
            <a:ext cx="43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球与月球的平均距离约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440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地球与月球"/>
          <p:cNvPicPr/>
          <p:nvPr/>
        </p:nvPicPr>
        <p:blipFill>
          <a:blip r:embed="rId1"/>
          <a:stretch/>
        </p:blipFill>
        <p:spPr>
          <a:xfrm>
            <a:off x="1692360" y="189000"/>
            <a:ext cx="524196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Calibri"/>
                <a:ea typeface="汉仪太极体简"/>
              </a:rPr>
              <a:t>数一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7646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971640" y="2276640"/>
            <a:ext cx="2520720" cy="2376000"/>
            <a:chOff x="971640" y="2276640"/>
            <a:chExt cx="2520720" cy="2376000"/>
          </a:xfrm>
        </p:grpSpPr>
        <p:sp>
          <p:nvSpPr>
            <p:cNvPr id="63" name="Rectangle 5"/>
            <p:cNvSpPr/>
            <p:nvPr/>
          </p:nvSpPr>
          <p:spPr>
            <a:xfrm>
              <a:off x="971640" y="4203720"/>
              <a:ext cx="2520720" cy="4489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汉仪太极体简"/>
                </a:rPr>
                <a:t>万   千    百    十    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6"/>
            <p:cNvSpPr/>
            <p:nvPr/>
          </p:nvSpPr>
          <p:spPr>
            <a:xfrm>
              <a:off x="1205280" y="2276640"/>
              <a:ext cx="5796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7"/>
            <p:cNvSpPr/>
            <p:nvPr/>
          </p:nvSpPr>
          <p:spPr>
            <a:xfrm>
              <a:off x="1616040" y="2276640"/>
              <a:ext cx="5796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8"/>
            <p:cNvSpPr/>
            <p:nvPr/>
          </p:nvSpPr>
          <p:spPr>
            <a:xfrm>
              <a:off x="2143440" y="2276640"/>
              <a:ext cx="5796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9"/>
            <p:cNvSpPr/>
            <p:nvPr/>
          </p:nvSpPr>
          <p:spPr>
            <a:xfrm>
              <a:off x="2670480" y="2276640"/>
              <a:ext cx="5796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10"/>
            <p:cNvSpPr/>
            <p:nvPr/>
          </p:nvSpPr>
          <p:spPr>
            <a:xfrm>
              <a:off x="3197880" y="2276640"/>
              <a:ext cx="5796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Oval 11"/>
          <p:cNvSpPr/>
          <p:nvPr/>
        </p:nvSpPr>
        <p:spPr>
          <a:xfrm>
            <a:off x="1332000" y="-384120"/>
            <a:ext cx="360360" cy="216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2"/>
          <p:cNvGrpSpPr/>
          <p:nvPr/>
        </p:nvGrpSpPr>
        <p:grpSpPr>
          <a:xfrm>
            <a:off x="5580000" y="2205000"/>
            <a:ext cx="2521080" cy="2376000"/>
            <a:chOff x="5580000" y="2205000"/>
            <a:chExt cx="2521080" cy="2376000"/>
          </a:xfrm>
        </p:grpSpPr>
        <p:grpSp>
          <p:nvGrpSpPr>
            <p:cNvPr id="71" name="Group 13"/>
            <p:cNvGrpSpPr/>
            <p:nvPr/>
          </p:nvGrpSpPr>
          <p:grpSpPr>
            <a:xfrm>
              <a:off x="5580000" y="2205000"/>
              <a:ext cx="2521080" cy="2376000"/>
              <a:chOff x="5580000" y="2205000"/>
              <a:chExt cx="2521080" cy="2376000"/>
            </a:xfrm>
          </p:grpSpPr>
          <p:sp>
            <p:nvSpPr>
              <p:cNvPr id="72" name="Rectangle 14"/>
              <p:cNvSpPr/>
              <p:nvPr/>
            </p:nvSpPr>
            <p:spPr>
              <a:xfrm>
                <a:off x="5580000" y="4132080"/>
                <a:ext cx="2521080" cy="44892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汉仪太极体简"/>
                  </a:rPr>
                  <a:t>万   千    百    十    个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15"/>
              <p:cNvSpPr/>
              <p:nvPr/>
            </p:nvSpPr>
            <p:spPr>
              <a:xfrm>
                <a:off x="5813640" y="2205000"/>
                <a:ext cx="57960" cy="1927080"/>
              </a:xfrm>
              <a:prstGeom prst="flowChartProcess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16"/>
              <p:cNvSpPr/>
              <p:nvPr/>
            </p:nvSpPr>
            <p:spPr>
              <a:xfrm>
                <a:off x="6224400" y="2205000"/>
                <a:ext cx="57960" cy="1927080"/>
              </a:xfrm>
              <a:prstGeom prst="flowChartProcess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17"/>
              <p:cNvSpPr/>
              <p:nvPr/>
            </p:nvSpPr>
            <p:spPr>
              <a:xfrm>
                <a:off x="6752160" y="2205000"/>
                <a:ext cx="57960" cy="1927080"/>
              </a:xfrm>
              <a:prstGeom prst="flowChartProcess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AutoShape 18"/>
              <p:cNvSpPr/>
              <p:nvPr/>
            </p:nvSpPr>
            <p:spPr>
              <a:xfrm>
                <a:off x="7279200" y="2205000"/>
                <a:ext cx="57960" cy="1927080"/>
              </a:xfrm>
              <a:prstGeom prst="flowChartProcess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AutoShape 19"/>
              <p:cNvSpPr/>
              <p:nvPr/>
            </p:nvSpPr>
            <p:spPr>
              <a:xfrm>
                <a:off x="7806600" y="2205000"/>
                <a:ext cx="57960" cy="1927080"/>
              </a:xfrm>
              <a:prstGeom prst="flowChartProcess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20"/>
            <p:cNvGrpSpPr/>
            <p:nvPr/>
          </p:nvGrpSpPr>
          <p:grpSpPr>
            <a:xfrm>
              <a:off x="6084720" y="2276280"/>
              <a:ext cx="287280" cy="1871640"/>
              <a:chOff x="6084720" y="2276280"/>
              <a:chExt cx="287280" cy="1871640"/>
            </a:xfrm>
          </p:grpSpPr>
          <p:sp>
            <p:nvSpPr>
              <p:cNvPr id="79" name="Oval 21"/>
              <p:cNvSpPr/>
              <p:nvPr/>
            </p:nvSpPr>
            <p:spPr>
              <a:xfrm>
                <a:off x="6084720" y="2276280"/>
                <a:ext cx="287280" cy="1872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22"/>
              <p:cNvSpPr/>
              <p:nvPr/>
            </p:nvSpPr>
            <p:spPr>
              <a:xfrm>
                <a:off x="6084720" y="2463480"/>
                <a:ext cx="287280" cy="18684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23"/>
              <p:cNvSpPr/>
              <p:nvPr/>
            </p:nvSpPr>
            <p:spPr>
              <a:xfrm>
                <a:off x="6084720" y="2650320"/>
                <a:ext cx="287280" cy="1872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24"/>
              <p:cNvSpPr/>
              <p:nvPr/>
            </p:nvSpPr>
            <p:spPr>
              <a:xfrm>
                <a:off x="6084720" y="2837520"/>
                <a:ext cx="287280" cy="1872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25"/>
              <p:cNvSpPr/>
              <p:nvPr/>
            </p:nvSpPr>
            <p:spPr>
              <a:xfrm>
                <a:off x="6084720" y="3025080"/>
                <a:ext cx="287280" cy="1872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26"/>
              <p:cNvSpPr/>
              <p:nvPr/>
            </p:nvSpPr>
            <p:spPr>
              <a:xfrm>
                <a:off x="6084720" y="3212280"/>
                <a:ext cx="287280" cy="18684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27"/>
              <p:cNvSpPr/>
              <p:nvPr/>
            </p:nvSpPr>
            <p:spPr>
              <a:xfrm>
                <a:off x="6084720" y="3399120"/>
                <a:ext cx="287280" cy="1872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28"/>
              <p:cNvSpPr/>
              <p:nvPr/>
            </p:nvSpPr>
            <p:spPr>
              <a:xfrm>
                <a:off x="6084720" y="3586680"/>
                <a:ext cx="287280" cy="1872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29"/>
              <p:cNvSpPr/>
              <p:nvPr/>
            </p:nvSpPr>
            <p:spPr>
              <a:xfrm>
                <a:off x="6084720" y="3773880"/>
                <a:ext cx="287280" cy="1872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30"/>
              <p:cNvSpPr/>
              <p:nvPr/>
            </p:nvSpPr>
            <p:spPr>
              <a:xfrm>
                <a:off x="6084720" y="3961080"/>
                <a:ext cx="287280" cy="18684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" name="Line 31"/>
          <p:cNvSpPr/>
          <p:nvPr/>
        </p:nvSpPr>
        <p:spPr>
          <a:xfrm>
            <a:off x="3851280" y="3429000"/>
            <a:ext cx="12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2" descr="katong1_093"/>
          <p:cNvPicPr/>
          <p:nvPr/>
        </p:nvPicPr>
        <p:blipFill>
          <a:blip r:embed="rId1"/>
          <a:stretch/>
        </p:blipFill>
        <p:spPr>
          <a:xfrm>
            <a:off x="7812000" y="5129280"/>
            <a:ext cx="1098720" cy="172872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33"/>
          <p:cNvSpPr/>
          <p:nvPr/>
        </p:nvSpPr>
        <p:spPr>
          <a:xfrm>
            <a:off x="3564000" y="5013360"/>
            <a:ext cx="3744720" cy="1179360"/>
          </a:xfrm>
          <a:prstGeom prst="cloudCallout">
            <a:avLst>
              <a:gd name="adj1" fmla="val 65768"/>
              <a:gd name="adj2" fmla="val 346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十个一千是多少？怎么表示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 0.00532 L 0.0118 0.62419 E">
                                      <p:cBhvr>
                                        <p:cTn id="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Calibri"/>
                <a:ea typeface="汉仪太极体简"/>
              </a:rPr>
              <a:t>数一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7646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971640" y="2276640"/>
            <a:ext cx="2520720" cy="2376000"/>
            <a:chOff x="971640" y="2276640"/>
            <a:chExt cx="2520720" cy="2376000"/>
          </a:xfrm>
        </p:grpSpPr>
        <p:sp>
          <p:nvSpPr>
            <p:cNvPr id="95" name="Rectangle 5"/>
            <p:cNvSpPr/>
            <p:nvPr/>
          </p:nvSpPr>
          <p:spPr>
            <a:xfrm>
              <a:off x="971640" y="4203720"/>
              <a:ext cx="2520720" cy="4489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汉仪太极体简"/>
                </a:rPr>
                <a:t>万   千    百    十    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6"/>
            <p:cNvSpPr/>
            <p:nvPr/>
          </p:nvSpPr>
          <p:spPr>
            <a:xfrm>
              <a:off x="1205280" y="2276640"/>
              <a:ext cx="5796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7"/>
            <p:cNvSpPr/>
            <p:nvPr/>
          </p:nvSpPr>
          <p:spPr>
            <a:xfrm>
              <a:off x="1616040" y="2276640"/>
              <a:ext cx="5796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8"/>
            <p:cNvSpPr/>
            <p:nvPr/>
          </p:nvSpPr>
          <p:spPr>
            <a:xfrm>
              <a:off x="2143440" y="2276640"/>
              <a:ext cx="5796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9"/>
            <p:cNvSpPr/>
            <p:nvPr/>
          </p:nvSpPr>
          <p:spPr>
            <a:xfrm>
              <a:off x="2670480" y="2276640"/>
              <a:ext cx="5796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0"/>
            <p:cNvSpPr/>
            <p:nvPr/>
          </p:nvSpPr>
          <p:spPr>
            <a:xfrm>
              <a:off x="3197880" y="2276640"/>
              <a:ext cx="5796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5580000" y="2205000"/>
            <a:ext cx="2521080" cy="2376360"/>
            <a:chOff x="5580000" y="2205000"/>
            <a:chExt cx="2521080" cy="2376360"/>
          </a:xfrm>
        </p:grpSpPr>
        <p:sp>
          <p:nvSpPr>
            <p:cNvPr id="102" name="Rectangle 12"/>
            <p:cNvSpPr/>
            <p:nvPr/>
          </p:nvSpPr>
          <p:spPr>
            <a:xfrm>
              <a:off x="5580000" y="4132080"/>
              <a:ext cx="2521080" cy="449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汉仪太极体简"/>
                </a:rPr>
                <a:t>万   千    百    十    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3"/>
            <p:cNvSpPr/>
            <p:nvPr/>
          </p:nvSpPr>
          <p:spPr>
            <a:xfrm>
              <a:off x="5813280" y="2205000"/>
              <a:ext cx="5868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4"/>
            <p:cNvSpPr/>
            <p:nvPr/>
          </p:nvSpPr>
          <p:spPr>
            <a:xfrm>
              <a:off x="6224400" y="2205000"/>
              <a:ext cx="5904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5"/>
            <p:cNvSpPr/>
            <p:nvPr/>
          </p:nvSpPr>
          <p:spPr>
            <a:xfrm>
              <a:off x="6751440" y="2205000"/>
              <a:ext cx="5904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16"/>
            <p:cNvSpPr/>
            <p:nvPr/>
          </p:nvSpPr>
          <p:spPr>
            <a:xfrm>
              <a:off x="7278480" y="2205000"/>
              <a:ext cx="5904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7"/>
            <p:cNvSpPr/>
            <p:nvPr/>
          </p:nvSpPr>
          <p:spPr>
            <a:xfrm>
              <a:off x="7805520" y="2205000"/>
              <a:ext cx="5904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18"/>
            <p:cNvGrpSpPr/>
            <p:nvPr/>
          </p:nvGrpSpPr>
          <p:grpSpPr>
            <a:xfrm>
              <a:off x="5724360" y="2205000"/>
              <a:ext cx="287280" cy="1871640"/>
              <a:chOff x="5724360" y="2205000"/>
              <a:chExt cx="287280" cy="1871640"/>
            </a:xfrm>
          </p:grpSpPr>
          <p:grpSp>
            <p:nvGrpSpPr>
              <p:cNvPr id="109" name="Group 19"/>
              <p:cNvGrpSpPr/>
              <p:nvPr/>
            </p:nvGrpSpPr>
            <p:grpSpPr>
              <a:xfrm>
                <a:off x="5724360" y="2205000"/>
                <a:ext cx="287280" cy="1684440"/>
                <a:chOff x="5724360" y="2205000"/>
                <a:chExt cx="287280" cy="1684440"/>
              </a:xfrm>
            </p:grpSpPr>
            <p:sp>
              <p:nvSpPr>
                <p:cNvPr id="110" name="Oval 20"/>
                <p:cNvSpPr/>
                <p:nvPr/>
              </p:nvSpPr>
              <p:spPr>
                <a:xfrm>
                  <a:off x="5724360" y="2205000"/>
                  <a:ext cx="287280" cy="187200"/>
                </a:xfrm>
                <a:prstGeom prst="ellipse">
                  <a:avLst/>
                </a:pr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Oval 21"/>
                <p:cNvSpPr/>
                <p:nvPr/>
              </p:nvSpPr>
              <p:spPr>
                <a:xfrm>
                  <a:off x="5724360" y="2392200"/>
                  <a:ext cx="287280" cy="187560"/>
                </a:xfrm>
                <a:prstGeom prst="ellipse">
                  <a:avLst/>
                </a:pr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Oval 22"/>
                <p:cNvSpPr/>
                <p:nvPr/>
              </p:nvSpPr>
              <p:spPr>
                <a:xfrm>
                  <a:off x="5724360" y="2579760"/>
                  <a:ext cx="287280" cy="187200"/>
                </a:xfrm>
                <a:prstGeom prst="ellipse">
                  <a:avLst/>
                </a:pr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Oval 23"/>
                <p:cNvSpPr/>
                <p:nvPr/>
              </p:nvSpPr>
              <p:spPr>
                <a:xfrm>
                  <a:off x="5724360" y="2766960"/>
                  <a:ext cx="287280" cy="187200"/>
                </a:xfrm>
                <a:prstGeom prst="ellipse">
                  <a:avLst/>
                </a:pr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24"/>
                <p:cNvSpPr/>
                <p:nvPr/>
              </p:nvSpPr>
              <p:spPr>
                <a:xfrm>
                  <a:off x="5724360" y="2954160"/>
                  <a:ext cx="287280" cy="187560"/>
                </a:xfrm>
                <a:prstGeom prst="ellipse">
                  <a:avLst/>
                </a:pr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Oval 25"/>
                <p:cNvSpPr/>
                <p:nvPr/>
              </p:nvSpPr>
              <p:spPr>
                <a:xfrm>
                  <a:off x="5724360" y="3141720"/>
                  <a:ext cx="287280" cy="185760"/>
                </a:xfrm>
                <a:prstGeom prst="ellipse">
                  <a:avLst/>
                </a:pr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Oval 26"/>
                <p:cNvSpPr/>
                <p:nvPr/>
              </p:nvSpPr>
              <p:spPr>
                <a:xfrm>
                  <a:off x="5724360" y="3327480"/>
                  <a:ext cx="287280" cy="187200"/>
                </a:xfrm>
                <a:prstGeom prst="ellipse">
                  <a:avLst/>
                </a:pr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Oval 27"/>
                <p:cNvSpPr/>
                <p:nvPr/>
              </p:nvSpPr>
              <p:spPr>
                <a:xfrm>
                  <a:off x="5724360" y="3514680"/>
                  <a:ext cx="287280" cy="187200"/>
                </a:xfrm>
                <a:prstGeom prst="ellipse">
                  <a:avLst/>
                </a:pr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Oval 28"/>
                <p:cNvSpPr/>
                <p:nvPr/>
              </p:nvSpPr>
              <p:spPr>
                <a:xfrm>
                  <a:off x="5724360" y="3701880"/>
                  <a:ext cx="287280" cy="187560"/>
                </a:xfrm>
                <a:prstGeom prst="ellipse">
                  <a:avLst/>
                </a:pr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Oval 29"/>
              <p:cNvSpPr/>
              <p:nvPr/>
            </p:nvSpPr>
            <p:spPr>
              <a:xfrm>
                <a:off x="5724360" y="3889440"/>
                <a:ext cx="287280" cy="1872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Line 30"/>
          <p:cNvSpPr/>
          <p:nvPr/>
        </p:nvSpPr>
        <p:spPr>
          <a:xfrm>
            <a:off x="3851280" y="3429000"/>
            <a:ext cx="12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1"/>
          <p:cNvSpPr/>
          <p:nvPr/>
        </p:nvSpPr>
        <p:spPr>
          <a:xfrm>
            <a:off x="971640" y="-384120"/>
            <a:ext cx="360360" cy="216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2" descr="katong1_093"/>
          <p:cNvPicPr/>
          <p:nvPr/>
        </p:nvPicPr>
        <p:blipFill>
          <a:blip r:embed="rId1"/>
          <a:stretch/>
        </p:blipFill>
        <p:spPr>
          <a:xfrm>
            <a:off x="7812000" y="5129280"/>
            <a:ext cx="1098720" cy="17287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33"/>
          <p:cNvSpPr/>
          <p:nvPr/>
        </p:nvSpPr>
        <p:spPr>
          <a:xfrm>
            <a:off x="3564000" y="5013360"/>
            <a:ext cx="3744720" cy="1179360"/>
          </a:xfrm>
          <a:prstGeom prst="cloudCallout">
            <a:avLst>
              <a:gd name="adj1" fmla="val 65768"/>
              <a:gd name="adj2" fmla="val 346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十个一万是多少？怎么表示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0532 L 0.00399 0.63459 E">
                                      <p:cBhvr>
                                        <p:cTn id="30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Calibri"/>
                <a:ea typeface="汉仪太极体简"/>
              </a:rPr>
              <a:t>数一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836280"/>
            <a:ext cx="82263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3851280" y="3429000"/>
            <a:ext cx="12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5"/>
          <p:cNvGrpSpPr/>
          <p:nvPr/>
        </p:nvGrpSpPr>
        <p:grpSpPr>
          <a:xfrm>
            <a:off x="468360" y="2276640"/>
            <a:ext cx="3311640" cy="2376360"/>
            <a:chOff x="468360" y="2276640"/>
            <a:chExt cx="3311640" cy="2376360"/>
          </a:xfrm>
        </p:grpSpPr>
        <p:sp>
          <p:nvSpPr>
            <p:cNvPr id="128" name="Rectangle 6"/>
            <p:cNvSpPr/>
            <p:nvPr/>
          </p:nvSpPr>
          <p:spPr>
            <a:xfrm>
              <a:off x="468360" y="4203720"/>
              <a:ext cx="3311640" cy="449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汉仪太极体简"/>
                </a:rPr>
                <a:t>十万   万    千    百    十    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755640" y="2276640"/>
              <a:ext cx="5868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8"/>
            <p:cNvSpPr/>
            <p:nvPr/>
          </p:nvSpPr>
          <p:spPr>
            <a:xfrm>
              <a:off x="1332000" y="2276640"/>
              <a:ext cx="5868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9"/>
            <p:cNvSpPr/>
            <p:nvPr/>
          </p:nvSpPr>
          <p:spPr>
            <a:xfrm>
              <a:off x="2411640" y="2276640"/>
              <a:ext cx="5868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0"/>
            <p:cNvSpPr/>
            <p:nvPr/>
          </p:nvSpPr>
          <p:spPr>
            <a:xfrm>
              <a:off x="2916360" y="2276640"/>
              <a:ext cx="5868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1"/>
            <p:cNvSpPr/>
            <p:nvPr/>
          </p:nvSpPr>
          <p:spPr>
            <a:xfrm>
              <a:off x="3492720" y="2276640"/>
              <a:ext cx="5868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2"/>
            <p:cNvSpPr/>
            <p:nvPr/>
          </p:nvSpPr>
          <p:spPr>
            <a:xfrm>
              <a:off x="1908360" y="2276640"/>
              <a:ext cx="5868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3"/>
          <p:cNvGrpSpPr/>
          <p:nvPr/>
        </p:nvGrpSpPr>
        <p:grpSpPr>
          <a:xfrm>
            <a:off x="5364000" y="2276640"/>
            <a:ext cx="3311640" cy="2376360"/>
            <a:chOff x="5364000" y="2276640"/>
            <a:chExt cx="3311640" cy="2376360"/>
          </a:xfrm>
        </p:grpSpPr>
        <p:sp>
          <p:nvSpPr>
            <p:cNvPr id="136" name="Rectangle 14"/>
            <p:cNvSpPr/>
            <p:nvPr/>
          </p:nvSpPr>
          <p:spPr>
            <a:xfrm>
              <a:off x="5364000" y="4203720"/>
              <a:ext cx="3311640" cy="449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汉仪太极体简"/>
                </a:rPr>
                <a:t>十万   万    千    百    十    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5"/>
            <p:cNvSpPr/>
            <p:nvPr/>
          </p:nvSpPr>
          <p:spPr>
            <a:xfrm>
              <a:off x="5651280" y="2276640"/>
              <a:ext cx="5868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16"/>
            <p:cNvSpPr/>
            <p:nvPr/>
          </p:nvSpPr>
          <p:spPr>
            <a:xfrm>
              <a:off x="6227640" y="2276640"/>
              <a:ext cx="5868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7"/>
            <p:cNvSpPr/>
            <p:nvPr/>
          </p:nvSpPr>
          <p:spPr>
            <a:xfrm>
              <a:off x="7307280" y="2276640"/>
              <a:ext cx="5868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8"/>
            <p:cNvSpPr/>
            <p:nvPr/>
          </p:nvSpPr>
          <p:spPr>
            <a:xfrm>
              <a:off x="7812000" y="2276640"/>
              <a:ext cx="5868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19"/>
            <p:cNvSpPr/>
            <p:nvPr/>
          </p:nvSpPr>
          <p:spPr>
            <a:xfrm>
              <a:off x="8388360" y="2276640"/>
              <a:ext cx="5868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20"/>
            <p:cNvSpPr/>
            <p:nvPr/>
          </p:nvSpPr>
          <p:spPr>
            <a:xfrm>
              <a:off x="6804000" y="2276640"/>
              <a:ext cx="5868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21"/>
          <p:cNvGrpSpPr/>
          <p:nvPr/>
        </p:nvGrpSpPr>
        <p:grpSpPr>
          <a:xfrm>
            <a:off x="1187280" y="-2255760"/>
            <a:ext cx="287280" cy="1871640"/>
            <a:chOff x="1187280" y="-2255760"/>
            <a:chExt cx="287280" cy="1871640"/>
          </a:xfrm>
        </p:grpSpPr>
        <p:sp>
          <p:nvSpPr>
            <p:cNvPr id="144" name="Oval 22"/>
            <p:cNvSpPr/>
            <p:nvPr/>
          </p:nvSpPr>
          <p:spPr>
            <a:xfrm>
              <a:off x="1187280" y="-2255760"/>
              <a:ext cx="287280" cy="18720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3"/>
            <p:cNvSpPr/>
            <p:nvPr/>
          </p:nvSpPr>
          <p:spPr>
            <a:xfrm>
              <a:off x="1187280" y="-2068560"/>
              <a:ext cx="287280" cy="1875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4"/>
            <p:cNvSpPr/>
            <p:nvPr/>
          </p:nvSpPr>
          <p:spPr>
            <a:xfrm>
              <a:off x="1187280" y="-1881000"/>
              <a:ext cx="287280" cy="18720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5"/>
            <p:cNvSpPr/>
            <p:nvPr/>
          </p:nvSpPr>
          <p:spPr>
            <a:xfrm>
              <a:off x="1187280" y="-1693800"/>
              <a:ext cx="287280" cy="18720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6"/>
            <p:cNvSpPr/>
            <p:nvPr/>
          </p:nvSpPr>
          <p:spPr>
            <a:xfrm>
              <a:off x="1187280" y="-1506600"/>
              <a:ext cx="287280" cy="1875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7"/>
            <p:cNvSpPr/>
            <p:nvPr/>
          </p:nvSpPr>
          <p:spPr>
            <a:xfrm>
              <a:off x="1187280" y="-1319040"/>
              <a:ext cx="287280" cy="1857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8"/>
            <p:cNvSpPr/>
            <p:nvPr/>
          </p:nvSpPr>
          <p:spPr>
            <a:xfrm>
              <a:off x="1187280" y="-1133280"/>
              <a:ext cx="287280" cy="18720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29"/>
            <p:cNvSpPr/>
            <p:nvPr/>
          </p:nvSpPr>
          <p:spPr>
            <a:xfrm>
              <a:off x="1187280" y="-946080"/>
              <a:ext cx="287280" cy="18720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0"/>
            <p:cNvSpPr/>
            <p:nvPr/>
          </p:nvSpPr>
          <p:spPr>
            <a:xfrm>
              <a:off x="1187280" y="-758880"/>
              <a:ext cx="287280" cy="1875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31"/>
            <p:cNvSpPr/>
            <p:nvPr/>
          </p:nvSpPr>
          <p:spPr>
            <a:xfrm>
              <a:off x="1187280" y="-571320"/>
              <a:ext cx="287280" cy="18720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Oval 32"/>
          <p:cNvSpPr/>
          <p:nvPr/>
        </p:nvSpPr>
        <p:spPr>
          <a:xfrm>
            <a:off x="5435640" y="-384120"/>
            <a:ext cx="360360" cy="216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33"/>
          <p:cNvSpPr txBox="1"/>
          <p:nvPr/>
        </p:nvSpPr>
        <p:spPr>
          <a:xfrm>
            <a:off x="5580000" y="4797360"/>
            <a:ext cx="216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</a:rPr>
              <a:t>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幼圆"/>
              <a:ea typeface="幼圆"/>
            </a:endParaRPr>
          </a:p>
        </p:txBody>
      </p:sp>
      <p:sp>
        <p:nvSpPr>
          <p:cNvPr id="156" name="WordArt 34"/>
          <p:cNvSpPr txBox="1"/>
          <p:nvPr/>
        </p:nvSpPr>
        <p:spPr>
          <a:xfrm>
            <a:off x="6156360" y="4797360"/>
            <a:ext cx="216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</a:rPr>
              <a:t>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幼圆"/>
              <a:ea typeface="幼圆"/>
            </a:endParaRPr>
          </a:p>
        </p:txBody>
      </p:sp>
      <p:sp>
        <p:nvSpPr>
          <p:cNvPr id="157" name="WordArt 35"/>
          <p:cNvSpPr txBox="1"/>
          <p:nvPr/>
        </p:nvSpPr>
        <p:spPr>
          <a:xfrm>
            <a:off x="7308720" y="4797360"/>
            <a:ext cx="216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</a:rPr>
              <a:t>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幼圆"/>
              <a:ea typeface="幼圆"/>
            </a:endParaRPr>
          </a:p>
        </p:txBody>
      </p:sp>
      <p:sp>
        <p:nvSpPr>
          <p:cNvPr id="158" name="WordArt 36"/>
          <p:cNvSpPr txBox="1"/>
          <p:nvPr/>
        </p:nvSpPr>
        <p:spPr>
          <a:xfrm>
            <a:off x="7812000" y="4797360"/>
            <a:ext cx="216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</a:rPr>
              <a:t>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幼圆"/>
              <a:ea typeface="幼圆"/>
            </a:endParaRPr>
          </a:p>
        </p:txBody>
      </p:sp>
      <p:sp>
        <p:nvSpPr>
          <p:cNvPr id="159" name="WordArt 37"/>
          <p:cNvSpPr txBox="1"/>
          <p:nvPr/>
        </p:nvSpPr>
        <p:spPr>
          <a:xfrm>
            <a:off x="8317080" y="4797360"/>
            <a:ext cx="21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</a:rPr>
              <a:t>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幼圆"/>
              <a:ea typeface="幼圆"/>
            </a:endParaRPr>
          </a:p>
        </p:txBody>
      </p:sp>
      <p:sp>
        <p:nvSpPr>
          <p:cNvPr id="160" name="WordArt 38"/>
          <p:cNvSpPr txBox="1"/>
          <p:nvPr/>
        </p:nvSpPr>
        <p:spPr>
          <a:xfrm>
            <a:off x="6732720" y="4797360"/>
            <a:ext cx="21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</a:rPr>
              <a:t>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23 L 0.00017 0.66074 E">
                                      <p:cBhvr>
                                        <p:cTn id="53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5273E-006 L 0.004 0.63459 E">
                                      <p:cBhvr>
                                        <p:cTn id="65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851280" y="1052640"/>
            <a:ext cx="18432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20081010113512144_2_副本21"/>
          <p:cNvPicPr/>
          <p:nvPr/>
        </p:nvPicPr>
        <p:blipFill>
          <a:blip r:embed="rId1"/>
          <a:stretch/>
        </p:blipFill>
        <p:spPr>
          <a:xfrm rot="20799600">
            <a:off x="1258560" y="3357720"/>
            <a:ext cx="1423800" cy="190944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4"/>
          <p:cNvGrpSpPr/>
          <p:nvPr/>
        </p:nvGrpSpPr>
        <p:grpSpPr>
          <a:xfrm>
            <a:off x="2987640" y="765000"/>
            <a:ext cx="5616720" cy="3816360"/>
            <a:chOff x="2987640" y="765000"/>
            <a:chExt cx="5616720" cy="3816360"/>
          </a:xfrm>
        </p:grpSpPr>
        <p:sp>
          <p:nvSpPr>
            <p:cNvPr id="164" name="AutoShape 5"/>
            <p:cNvSpPr/>
            <p:nvPr/>
          </p:nvSpPr>
          <p:spPr>
            <a:xfrm>
              <a:off x="2987640" y="765000"/>
              <a:ext cx="5616720" cy="3816360"/>
            </a:xfrm>
            <a:prstGeom prst="wedgeRoundRectCallout">
              <a:avLst>
                <a:gd name="adj1" fmla="val -44064"/>
                <a:gd name="adj2" fmla="val 51912"/>
                <a:gd name="adj3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"/>
            <p:cNvSpPr/>
            <p:nvPr/>
          </p:nvSpPr>
          <p:spPr>
            <a:xfrm>
              <a:off x="3419280" y="1484280"/>
              <a:ext cx="475164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个十万是一百万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个一百万是一千万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个一千万是</a:t>
              </a:r>
              <a:r>
                <a:rPr b="1" lang="zh-CN" sz="3200" spc="-1" strike="noStrike">
                  <a:solidFill>
                    <a:srgbClr val="ff3300"/>
                  </a:solidFill>
                  <a:latin typeface="宋体"/>
                </a:rPr>
                <a:t>多少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呢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2-16T13:18:52Z</dcterms:modified>
  <cp:revision>1</cp:revision>
  <dc:subject/>
  <dc:title>幻灯片 1</dc:title>
</cp:coreProperties>
</file>